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293760" y="762120"/>
            <a:ext cx="5257800" cy="67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lg 2 GHP Ed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5/3x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533520" y="6095880"/>
            <a:ext cx="28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5x + 3y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x – 5y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x – 3y = 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76"/>
          <p:cNvSpPr/>
          <p:nvPr/>
        </p:nvSpPr>
        <p:spPr>
          <a:xfrm>
            <a:off x="376200" y="309600"/>
            <a:ext cx="579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tandard form through (-3,0) and parallel to the line joining (2,3) and (-1,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75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0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700"/>
                            </p:stCondLst>
                            <p:childTnLst>
                              <p:par>
                                <p:cTn id="1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200"/>
                            </p:stCondLst>
                            <p:childTnLst>
                              <p:par>
                                <p:cTn id="1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3/8x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5"/>
          <p:cNvSpPr/>
          <p:nvPr/>
        </p:nvSpPr>
        <p:spPr>
          <a:xfrm>
            <a:off x="533520" y="6095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3x + 8y =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x – 8y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x – 4y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4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76"/>
          <p:cNvSpPr/>
          <p:nvPr/>
        </p:nvSpPr>
        <p:spPr>
          <a:xfrm>
            <a:off x="268200" y="235080"/>
            <a:ext cx="56930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tandard form with the x intercept of (8,0) and y intercept of (0,-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8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- ½ x + y = 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5"/>
          <p:cNvSpPr/>
          <p:nvPr/>
        </p:nvSpPr>
        <p:spPr>
          <a:xfrm>
            <a:off x="533520" y="6095880"/>
            <a:ext cx="30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 = ½ x + 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x – 2y =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x – 2y =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6"/>
          <p:cNvSpPr/>
          <p:nvPr/>
        </p:nvSpPr>
        <p:spPr>
          <a:xfrm>
            <a:off x="766800" y="28908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tandard form containing (-1,1) and has a slope of 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9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9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-1/10x – 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53352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x + 10y = -1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x + y =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x + 5y = -11/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8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6"/>
          <p:cNvSpPr/>
          <p:nvPr/>
        </p:nvSpPr>
        <p:spPr>
          <a:xfrm>
            <a:off x="698400" y="262080"/>
            <a:ext cx="5181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tandard form through (-3,- ¼ ) and (2, -3/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0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10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1" fill="hold"/>
                                        <p:tgtEl>
                                          <p:spTgt spid="1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(8,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(6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(12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( ½ ,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76"/>
          <p:cNvSpPr/>
          <p:nvPr/>
        </p:nvSpPr>
        <p:spPr>
          <a:xfrm>
            <a:off x="376200" y="241200"/>
            <a:ext cx="571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line passes through the point (2,-4) with a slope of ½. Which point does the line also pass throug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1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k = 1/3 ; y = 1/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5"/>
          <p:cNvSpPr/>
          <p:nvPr/>
        </p:nvSpPr>
        <p:spPr>
          <a:xfrm>
            <a:off x="533520" y="6095880"/>
            <a:ext cx="25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k = 3 ; y = 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6"/>
          <p:cNvSpPr/>
          <p:nvPr/>
        </p:nvSpPr>
        <p:spPr>
          <a:xfrm>
            <a:off x="4952880" y="5029200"/>
            <a:ext cx="35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k = -1/3 ; y = -1/3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k = -3 ; y = -3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3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76"/>
          <p:cNvSpPr/>
          <p:nvPr/>
        </p:nvSpPr>
        <p:spPr>
          <a:xfrm>
            <a:off x="430200" y="282600"/>
            <a:ext cx="5665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directly with x. If x=3 when y=1, find the value of k and write the direct variation eq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7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8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" fill="hold"/>
                                        <p:tgtEl>
                                          <p:spTgt spid="1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75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20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00"/>
                            </p:stCondLst>
                            <p:childTnLst>
                              <p:par>
                                <p:cTn id="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200"/>
                            </p:stCondLst>
                            <p:childTnLst>
                              <p:par>
                                <p:cTn id="3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x =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x = 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x = 1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x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76"/>
          <p:cNvSpPr/>
          <p:nvPr/>
        </p:nvSpPr>
        <p:spPr>
          <a:xfrm>
            <a:off x="752400" y="78588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directly with x. If x=10 when y=4, find x when y=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" fill="hold"/>
                                        <p:tgtEl>
                                          <p:spTgt spid="1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1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k=3 ; y = 3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15"/>
          <p:cNvSpPr/>
          <p:nvPr/>
        </p:nvSpPr>
        <p:spPr>
          <a:xfrm>
            <a:off x="533520" y="60958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k=-6 ; y = -6/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k=1/6 ; y = 1/6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k=6 ; y = 6/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9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76"/>
          <p:cNvSpPr/>
          <p:nvPr/>
        </p:nvSpPr>
        <p:spPr>
          <a:xfrm>
            <a:off x="685800" y="30168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inversely with x. If x=1 when y=6, find the value of k and write the inverse vari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1" fill="hold"/>
                                        <p:tgtEl>
                                          <p:spTgt spid="15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1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x = 6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x = 4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x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x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1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76"/>
          <p:cNvSpPr/>
          <p:nvPr/>
        </p:nvSpPr>
        <p:spPr>
          <a:xfrm>
            <a:off x="752400" y="49068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inversely with x. If x=11 when y=3, find x when y=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" fill="hold"/>
                                        <p:tgtEl>
                                          <p:spTgt spid="1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1" fill="hold"/>
                                        <p:tgtEl>
                                          <p:spTgt spid="17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½ x + 3/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33520" y="6095880"/>
            <a:ext cx="27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 = ½ x - 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 = - ½ x – 3/2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 = ½ 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5"/>
          <p:cNvSpPr/>
          <p:nvPr/>
        </p:nvSpPr>
        <p:spPr>
          <a:xfrm>
            <a:off x="592200" y="316080"/>
            <a:ext cx="51814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lope-Intercept Form:  through (1,2), m=1/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" fill="hold"/>
                                        <p:tgtEl>
                                          <p:spTgt spid="17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k=4 ; y = 4xz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15"/>
          <p:cNvSpPr/>
          <p:nvPr/>
        </p:nvSpPr>
        <p:spPr>
          <a:xfrm>
            <a:off x="533520" y="60958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k=-4 ; y = -4xz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k=8 ; y = 8xz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17"/>
          <p:cNvSpPr/>
          <p:nvPr/>
        </p:nvSpPr>
        <p:spPr>
          <a:xfrm>
            <a:off x="4952880" y="6095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k=-8 ; y = -8xz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3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76"/>
          <p:cNvSpPr/>
          <p:nvPr/>
        </p:nvSpPr>
        <p:spPr>
          <a:xfrm>
            <a:off x="0" y="54000"/>
            <a:ext cx="6602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jointly with x and z and inversely as w. If y=2 when x=2, z=1, and w=4, find the value of k and write the combined variation eq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3" dur="1" fill="hold"/>
                                        <p:tgtEl>
                                          <p:spTgt spid="1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9" dur="1" fill="hold"/>
                                        <p:tgtEl>
                                          <p:spTgt spid="1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1" fill="hold"/>
                                        <p:tgtEl>
                                          <p:spTgt spid="1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 =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 = -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 = 3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 = -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6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76"/>
          <p:cNvSpPr/>
          <p:nvPr/>
        </p:nvSpPr>
        <p:spPr>
          <a:xfrm>
            <a:off x="0" y="255600"/>
            <a:ext cx="65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varies jointly with x and z and inversely with w. If y=1 when x=4, z=2, and w=3, find w when y=6, x=8, and z=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1" fill="hold"/>
                                        <p:tgtEl>
                                          <p:spTgt spid="19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500"/>
                            </p:stCondLst>
                            <p:childTnLst>
                              <p:par>
                                <p:cTn id="5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1" fill="hold"/>
                                        <p:tgtEl>
                                          <p:spTgt spid="19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50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2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73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974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982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9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990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8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999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07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5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16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24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32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39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040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1" fill="hold"/>
                                        <p:tgtEl>
                                          <p:spTgt spid="19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50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-2x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 = -2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 = ½ x 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 = - ½ x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6"/>
          <p:cNvSpPr/>
          <p:nvPr/>
        </p:nvSpPr>
        <p:spPr>
          <a:xfrm>
            <a:off x="833400" y="73080"/>
            <a:ext cx="5181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lope-Intercept form through (1,1), parallel t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 = -2x +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-2/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533520" y="609588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 = 3/2x 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 = -2/3x 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 = 3/2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76"/>
          <p:cNvSpPr/>
          <p:nvPr/>
        </p:nvSpPr>
        <p:spPr>
          <a:xfrm>
            <a:off x="766800" y="66600"/>
            <a:ext cx="5181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lope- Intercept form through (0,-6), perpendicular to -3x+2y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0" y="374652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 = 3/4x + 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533520" y="6095880"/>
            <a:ext cx="26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 = 4/3x +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 = -3/4x +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 = -4/3x –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6"/>
          <p:cNvSpPr/>
          <p:nvPr/>
        </p:nvSpPr>
        <p:spPr>
          <a:xfrm>
            <a:off x="712800" y="369720"/>
            <a:ext cx="5181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the equation of the line in Slope-Intercept form through (1,1)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-3,-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PSD</cp:lastModifiedBy>
  <dcterms:modified xsi:type="dcterms:W3CDTF">2010-04-15T12:22:15Z</dcterms:modified>
  <cp:revision>26</cp:revision>
  <dc:subject/>
  <dc:title>No Slide Title</dc:title>
</cp:coreProperties>
</file>